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6C6-9F9F-457B-879F-AE074409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78C-D50B-423C-8AA2-8727E07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046-589B-4C7D-B13B-31F51D4E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95D-5FCB-44F6-86DF-F9604D28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8C8-87A3-4D5D-A20A-394B90AA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F1EC-6F0A-4C5C-8BF1-2C460EE3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9584-FEE1-49D0-8F08-84D15D6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DB0C-012D-4599-9E02-86BD5C2F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DC85-F59D-4336-8108-3C25778D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5F00-D930-4786-837C-B4E1F09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ACB3-070D-4697-8490-693587C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301-0C29-4DFC-9FE0-C021AF63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00A-255F-4E53-8786-DD53E54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05C8-5645-48C2-A637-9BFF0CE4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1A0C-1F1F-4716-836C-A19D092C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A07-56D7-40F8-87EA-8B82DFE8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6B25-FDFA-4312-BBCC-80441470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CD9A-1A67-4E14-BB4E-4E034DE9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0144-33A3-475A-AC1E-A7C4BA5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13D3-978F-4F87-B379-DCA6F4B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6DB8-580F-42A0-8F24-1EB10E7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E8DE-E631-4FD0-961C-77C6B6D6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5A1-95E4-4A86-AACB-09D013F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9F95-830C-4596-87EE-B74C7392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156F-F5E1-46C4-A89B-0CAC03A0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FC80-6C2A-4C79-8943-47D5F34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F35D-F18D-4DA0-8A0B-0285E7B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CDE8-A7D1-4AD5-B896-CF4EE9C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B7F1-2244-41B5-81E2-8EBDCE64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A9C8-0F4B-4C3F-974D-DEDDDDB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B2D-B063-45F2-AAC5-EE3CED8F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B53-ED0F-4569-A8AD-CBC5B11F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85B-19A7-458A-B8B6-D81867D1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398-F4E4-419E-B24A-26FBA3B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1D3-0F12-44D8-886F-24AC739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F22-70F1-4DD0-A0D6-6EB19BD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864-25D6-4080-89B8-CC23F62145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C6C8-4A72-42CC-807A-A035ED5EBA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55A1-B1A7-4FB0-BBFA-CDACB21F65C5}" type="slidenum">
              <a:rPr b="0" lang="en-US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9/Early_morning_on_the_Ganges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65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Early Belief Syste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520" y="19807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Hinduism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6324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indu Symbols and Ar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76360" y="12952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Om or Aum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5120" y="22395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presents all existe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oliest of all symb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5" name="Picture 5" descr="OM"/>
          <p:cNvPicPr/>
          <p:nvPr/>
        </p:nvPicPr>
        <p:blipFill>
          <a:blip r:embed="rId1"/>
          <a:stretch/>
        </p:blipFill>
        <p:spPr>
          <a:xfrm>
            <a:off x="0" y="0"/>
            <a:ext cx="2262240" cy="2239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1905120" y="365796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"The goal which all the Vedas declare, which all austerities aim at, and which men desire when they lead the life of continence … is OM. This syllable OM is indeed Brahman. Whosoever knows this syllable obtains all that he desires. This is the best support; this is the highest support. Whosoever knows this support is adored in the world of Brahma." </a:t>
            </a:r>
            <a:br>
              <a:rPr sz="1800"/>
            </a:b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~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Katha Upanishad I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Swastika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spiciousnes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n’s four part circl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ardinal points of the earth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laced on homes and animals for protection (Good Luck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9" name="Picture 7" descr="SWASTIKA"/>
          <p:cNvPicPr/>
          <p:nvPr/>
        </p:nvPicPr>
        <p:blipFill>
          <a:blip r:embed="rId1"/>
          <a:stretch/>
        </p:blipFill>
        <p:spPr>
          <a:xfrm>
            <a:off x="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oly Book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panishads – part of Vedas, stories and philosoph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hagavad Gita – establishing a relationship with the etern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Temple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indus worship at temples and at private shrin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rines are might to reflect personal devo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hrines are often transported with famil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3400" y="56386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oly Place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480" y="1828800"/>
            <a:ext cx="5105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Ganges River – Sacred river that is viewed as a godd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Hindus bath in it to wash away si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Ashes are washed away to heav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Arial"/>
              </a:rPr>
              <a:t>Some take its water home in brass containe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7" descr="615px-Early_morning_on_the_Gan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60" y="2901960"/>
            <a:ext cx="4038480" cy="3940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Varanasi_temple"/>
          <p:cNvPicPr/>
          <p:nvPr/>
        </p:nvPicPr>
        <p:blipFill>
          <a:blip r:embed="rId3"/>
          <a:stretch/>
        </p:blipFill>
        <p:spPr>
          <a:xfrm>
            <a:off x="0" y="6480"/>
            <a:ext cx="40910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16320" y="1695240"/>
            <a:ext cx="4276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05050"/>
                </a:solidFill>
                <a:latin typeface="Arial Black"/>
              </a:rPr>
              <a:t>Additional Term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43400" y="3047760"/>
            <a:ext cx="47800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harma – living a righteous lif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Yoga – meditation dedicated to transcending this world of illus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0" name="Picture 5" descr="hindu_temple_idol_worship"/>
          <p:cNvPicPr/>
          <p:nvPr/>
        </p:nvPicPr>
        <p:blipFill>
          <a:blip r:embed="rId1"/>
          <a:stretch/>
        </p:blipFill>
        <p:spPr>
          <a:xfrm>
            <a:off x="0" y="1695600"/>
            <a:ext cx="4181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129528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Aryans transform India</a:t>
            </a:r>
            <a:endParaRPr b="0" lang="en-US" sz="40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228564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ve from Caspian Sea to India – (1500 BC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nly major artifact remaining is the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Vedas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Sacred text of prayers, songs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y were taller and paler then native India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7" name="Picture 5" descr="probabale%2520movement%2520of%2520aryans%2520into%2520india"/>
          <p:cNvPicPr/>
          <p:nvPr/>
        </p:nvPicPr>
        <p:blipFill>
          <a:blip r:embed="rId1"/>
          <a:stretch/>
        </p:blipFill>
        <p:spPr>
          <a:xfrm>
            <a:off x="0" y="289548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The Cast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acted all areas of lif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evel determined your care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ust marry within your cast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251f"/>
                </a:solidFill>
                <a:latin typeface="Arial Black"/>
              </a:rPr>
              <a:t>A way to think of Cast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Picture 5" descr="C:\Users\Kuenzi\AppData\Local\Microsoft\Windows\Temporary Internet Files\Content.IE5\NILPC7UF\MCj04356260000[1].wmf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51814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Brahmins (priests) = Mouth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32560" y="350532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Rulers &amp; Warriors = Arm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8" descr="C:\Users\Kuenzi\AppData\Local\Microsoft\Windows\Temporary Internet Files\Content.IE5\0F511Y03\MMj03566690000[1].gif"/>
          <p:cNvPicPr/>
          <p:nvPr/>
        </p:nvPicPr>
        <p:blipFill>
          <a:blip r:embed="rId2"/>
          <a:stretch/>
        </p:blipFill>
        <p:spPr>
          <a:xfrm>
            <a:off x="8077320" y="5608800"/>
            <a:ext cx="1066680" cy="1249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5343120" y="502920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Peasants &amp; traders = Leg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850680" y="60958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Laborers = Fee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186240" y="639612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251f"/>
                </a:solidFill>
                <a:latin typeface="Arial"/>
              </a:rPr>
              <a:t>Untouchab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1904760"/>
            <a:ext cx="49528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 Black"/>
              </a:rPr>
              <a:t>A Caste System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514600" y="1143000"/>
            <a:ext cx="6629400" cy="5715000"/>
            <a:chOff x="2514600" y="1143000"/>
            <a:chExt cx="6629400" cy="5715000"/>
          </a:xfrm>
        </p:grpSpPr>
        <p:sp>
          <p:nvSpPr>
            <p:cNvPr id="141" name="Pyr1"/>
            <p:cNvSpPr/>
            <p:nvPr/>
          </p:nvSpPr>
          <p:spPr>
            <a:xfrm>
              <a:off x="5094360" y="1143000"/>
              <a:ext cx="1486080" cy="126684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692280 h 1266840"/>
                <a:gd name="textAreaBottom" fmla="*/ 120816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" name="Pyr2"/>
            <p:cNvSpPr/>
            <p:nvPr/>
          </p:nvSpPr>
          <p:spPr>
            <a:xfrm>
              <a:off x="4233960" y="2409840"/>
              <a:ext cx="3198960" cy="14860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Warriors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" name="Pyr3"/>
            <p:cNvSpPr/>
            <p:nvPr/>
          </p:nvSpPr>
          <p:spPr>
            <a:xfrm>
              <a:off x="3382920" y="3895920"/>
              <a:ext cx="4900680" cy="14842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Peasants &amp; </a:t>
              </a:r>
              <a:r>
                <a:rPr b="0" i="1" lang="en-US" sz="1800" spc="-1" strike="noStrike">
                  <a:solidFill>
                    <a:srgbClr val="5f5f5f"/>
                  </a:solidFill>
                  <a:latin typeface="Arial"/>
                </a:rPr>
                <a:t>Shudras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 (non-Aryan workers)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" name="Pyr4"/>
            <p:cNvSpPr/>
            <p:nvPr/>
          </p:nvSpPr>
          <p:spPr>
            <a:xfrm>
              <a:off x="2514600" y="5372280"/>
              <a:ext cx="6629400" cy="1485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Untouchables – those with unclean jobs (garbage collection, gravediggers . . .)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6248520" y="1600200"/>
            <a:ext cx="268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Brahmins or priest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676520" y="33526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- Do we have a caste system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- Discuss with a partner/shar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95760" y="1424160"/>
            <a:ext cx="541008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The Origins of Hinduism</a:t>
            </a:r>
            <a:endParaRPr b="0" lang="en-US" sz="40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ulted from the blending of Aryan and non-Aryan belief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 single found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habharata – epic of Aryans, non-Aryans and their god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ishonor is worse than Death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9" name="Picture 5" descr="Hinduism"/>
          <p:cNvPicPr/>
          <p:nvPr/>
        </p:nvPicPr>
        <p:blipFill>
          <a:blip r:embed="rId1"/>
          <a:stretch/>
        </p:blipFill>
        <p:spPr>
          <a:xfrm>
            <a:off x="0" y="0"/>
            <a:ext cx="27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agadhaicon7nb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0" y="16765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Hinduism Grow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28440" y="28195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al is to liberate the soul from illusions, disappointment &amp; mistak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Moksh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– a state of perfect understand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Atma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– individual soul (Self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Brahma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– world soul that unites all atman (all force in universe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Picture 5" descr="upanishads_easwaren"/>
          <p:cNvPicPr/>
          <p:nvPr/>
        </p:nvPicPr>
        <p:blipFill>
          <a:blip r:embed="rId1"/>
          <a:stretch/>
        </p:blipFill>
        <p:spPr>
          <a:xfrm>
            <a:off x="0" y="0"/>
            <a:ext cx="189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Achieving Moksha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soul is reincarnated until moksha is achiev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Karma – (the good or bad of the soul) impacts reincarn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rahman is often viewed as three gods: Brahma-creator, Vishnu-protector &amp; Shiva-destroy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09320" y="266688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Gods and Path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09320" y="342864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ree Path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th of right think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th of right a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th of religious devo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induism lead to Buddhism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8" name="Picture 5" descr="Brahma - the creator"/>
          <p:cNvPicPr/>
          <p:nvPr/>
        </p:nvPicPr>
        <p:blipFill>
          <a:blip r:embed="rId1"/>
          <a:stretch/>
        </p:blipFill>
        <p:spPr>
          <a:xfrm>
            <a:off x="0" y="0"/>
            <a:ext cx="181296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vishnu"/>
          <p:cNvPicPr/>
          <p:nvPr/>
        </p:nvPicPr>
        <p:blipFill>
          <a:blip r:embed="rId2"/>
          <a:stretch/>
        </p:blipFill>
        <p:spPr>
          <a:xfrm>
            <a:off x="1828800" y="0"/>
            <a:ext cx="3095640" cy="26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hiva_lingam1"/>
          <p:cNvPicPr/>
          <p:nvPr/>
        </p:nvPicPr>
        <p:blipFill>
          <a:blip r:embed="rId3"/>
          <a:stretch/>
        </p:blipFill>
        <p:spPr>
          <a:xfrm>
            <a:off x="4876920" y="0"/>
            <a:ext cx="2166840" cy="281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rama310"/>
          <p:cNvPicPr/>
          <p:nvPr/>
        </p:nvPicPr>
        <p:blipFill>
          <a:blip r:embed="rId4"/>
          <a:stretch/>
        </p:blipFill>
        <p:spPr>
          <a:xfrm>
            <a:off x="6959520" y="0"/>
            <a:ext cx="2184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3:42:00Z</dcterms:created>
  <dc:creator>Gail Kuenzi</dc:creator>
  <dc:description/>
  <dc:language>en-US</dc:language>
  <cp:lastModifiedBy>Kuenzi</cp:lastModifiedBy>
  <dcterms:modified xsi:type="dcterms:W3CDTF">2012-10-11T01:42:22Z</dcterms:modified>
  <cp:revision>14</cp:revision>
  <dc:subject/>
  <dc:title>Early Belief Systems</dc:title>
</cp:coreProperties>
</file>